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E85E-2539-45FA-90B7-FFD56E49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DED-1396-40B0-B70C-65695CDD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AAB-760A-4749-B075-8830392C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A9D-4AE3-454C-889D-12EE4484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2195-74F5-4174-B24E-C13122D2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1531-8F1B-4F4B-9A97-BBC117DB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1157-5F3E-4386-8630-12225398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8628-CCD7-460E-BB94-4962B758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245D-4992-4753-963F-76FF8213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F146-C233-4AB8-ABB4-B39C9D54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923D-8D9D-4E67-81F5-A19F8E60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B8C-5A3C-4FD2-B584-01A1626C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1144-6606-47D5-9340-1E078DC1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8502-8929-4039-AF57-DB4D1D26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03FB-A09F-4DC2-B2E4-7F75BA7F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F272-F7A3-4841-A070-5F8B4C66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77D0-1D3E-49AE-9509-8C528687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E8D-4D09-4B1A-AE2B-8A836125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8B8-74C2-4D7D-BD21-E97BE9DE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5550-C9F2-44D6-8E58-239DDBB0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C75-3ADD-443B-84E5-04B9FB66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AB3-1641-477F-9AFA-AC968405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866-78A5-4966-B90E-0D5DBFBD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ADF-14BA-4FFD-80B5-C76ACC67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599A-0B53-4034-9251-406580EA26E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CBB7-0ADD-4A7A-9F11-8D6B522DAE7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hat is an avalanche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n avalanche is a large mass of snow and ice or of earth or rock sliding down a mountainside or over a cliff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ery year, 30 people are killed by avalanches in the United Sta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t avalanches are triggered by people and could be avoid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t victims are skiers, snowmobilers, and outdoor adventur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t avalanches are not freak natural disasters, like earthquakes, that strike without warn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now is made up of microscopic particles—water, air and ic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these particles stick together and why they sometimes fall apart is a key to understanding why avalanches happ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’s read “In the Path of the Avalanche!” to find out more!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2:08:50Z</dcterms:created>
  <dc:creator>Compaq Customer </dc:creator>
  <dc:description/>
  <dc:language>en-US</dc:language>
  <cp:lastModifiedBy>Rutherford County Schools</cp:lastModifiedBy>
  <dcterms:modified xsi:type="dcterms:W3CDTF">2007-04-21T15:16:02Z</dcterms:modified>
  <cp:revision>5</cp:revision>
  <dc:subject/>
  <dc:title>Do You Feel Earth Moving?</dc:title>
</cp:coreProperties>
</file>